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2BB9-8F90-48C6-956D-26AA543644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E62-0B46-47BD-AC1B-B07DD6A4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79B-1A3F-4566-B180-E2F70904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209-B36D-4B5E-B326-AC7458F7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945-D061-45B1-A771-B85B593B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218D-F925-4B28-9FD8-98888E6B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0B38-AC1B-45B5-B0EC-D4B36DF2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96CC-D325-4BE8-B440-E24DABB5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139D-3ADA-448F-960F-0BED4B99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0397-769D-4A69-8995-514D16C3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9976-4195-4214-B190-2FA05C0B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EB4F-0A15-40ED-A0CE-DB491CA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5C8-595D-4A5A-BB6B-B7D1760E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F94F-7EBE-43AA-BD7C-9B380C0D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5884-21F6-4C2F-9EBA-A397CB29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D805-9BB1-40D9-BFD6-BF61EE6A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10DA-9DF6-4F86-BCA1-F27F5201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A9DD-6176-4949-9AB9-C8E40B92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D02-7B4A-4B39-8F15-9D3B180C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6C9-89FF-407D-80DC-0EB0A988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265-5700-4758-8E25-B69C0E70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1BF-7CCD-4449-BC01-E42C2A5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BB4-DB41-4631-8A36-A6F9900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1D6-C154-4112-B955-BD59F57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D02-280C-426B-B28A-D27317B2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4667-6A05-4F4A-8005-D572EF3D97E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EED1-5637-4F15-9D67-47B659312E8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tars10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5840"/>
            <a:ext cx="86374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6" name="Picture 1027" descr="homer"/>
          <p:cNvPicPr/>
          <p:nvPr/>
        </p:nvPicPr>
        <p:blipFill>
          <a:blip r:embed="rId1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8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3680" y="2631960"/>
            <a:ext cx="76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57280" y="361800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halseye"/>
          <p:cNvPicPr/>
          <p:nvPr/>
        </p:nvPicPr>
        <p:blipFill>
          <a:blip r:embed="rId1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6" descr="trojan%20horse"/>
          <p:cNvPicPr/>
          <p:nvPr/>
        </p:nvPicPr>
        <p:blipFill>
          <a:blip r:embed="rId1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Picture 3" descr="2001"/>
          <p:cNvPicPr/>
          <p:nvPr/>
        </p:nvPicPr>
        <p:blipFill>
          <a:blip r:embed="rId1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RomaK</cp:lastModifiedBy>
  <dcterms:modified xsi:type="dcterms:W3CDTF">2015-09-02T09:26:15Z</dcterms:modified>
  <cp:revision>24</cp:revision>
  <dc:subject/>
  <dc:title>Greek Mythology, Monsters and Exotic Worlds, Part I </dc:title>
</cp:coreProperties>
</file>